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DRIVEBY.WAV" ContentType="audio/x-wav"/>
  <Override PartName="/ppt/media/image15.wmf" ContentType="image/x-wmf"/>
  <Override PartName="/ppt/media/jetflyby2.wav" ContentType="audio/x-wav"/>
  <Override PartName="/ppt/media/image14.wmf" ContentType="image/x-wmf"/>
  <Override PartName="/ppt/media/LASER.WAV" ContentType="audio/x-wav"/>
  <Override PartName="/ppt/media/image13.wmf" ContentType="image/x-wmf"/>
  <Override PartName="/ppt/media/EXPLODE.WAV" ContentType="audio/x-wav"/>
  <Override PartName="/ppt/media/image11.wmf" ContentType="image/x-wmf"/>
  <Override PartName="/ppt/media/image10.wmf" ContentType="image/x-wmf"/>
  <Override PartName="/ppt/media/image12.wmf" ContentType="image/x-wmf"/>
  <Override PartName="/ppt/media/image1.gif" ContentType="image/gif"/>
  <Override PartName="/ppt/media/image2.wmf" ContentType="image/x-wmf"/>
  <Override PartName="/ppt/media/image32.wmf" ContentType="image/x-wmf"/>
  <Override PartName="/ppt/media/image4.wmf" ContentType="image/x-wmf"/>
  <Override PartName="/ppt/media/image34.wmf" ContentType="image/x-wmf"/>
  <Override PartName="/ppt/media/image3.wmf" ContentType="image/x-wmf"/>
  <Override PartName="/ppt/media/RICOCHET.WAV" ContentType="audio/x-wav"/>
  <Override PartName="/ppt/media/image33.wmf" ContentType="image/x-wmf"/>
  <Override PartName="/ppt/media/image20.wmf" ContentType="image/x-wmf"/>
  <Override PartName="/ppt/media/image18.wmf" ContentType="image/x-wmf"/>
  <Override PartName="/ppt/media/image25.wmf" ContentType="image/x-wmf"/>
  <Override PartName="/ppt/media/image26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27.wmf" ContentType="image/x-wmf"/>
  <Override PartName="/ppt/media/image42.wmf" ContentType="image/x-wmf"/>
  <Override PartName="/ppt/media/GUNSHOT.WAV" ContentType="audio/x-wav"/>
  <Override PartName="/ppt/media/image43.gif" ContentType="image/gif"/>
  <Override PartName="/ppt/media/image35.wmf" ContentType="image/x-wmf"/>
  <Override PartName="/ppt/media/image40.wmf" ContentType="image/x-wmf"/>
  <Override PartName="/ppt/media/image30.wmf" ContentType="image/x-wmf"/>
  <Override PartName="/ppt/media/image44.wmf" ContentType="image/x-wmf"/>
  <Override PartName="/ppt/media/image38.wmf" ContentType="image/x-wmf"/>
  <Override PartName="/ppt/media/image8.wmf" ContentType="image/x-wmf"/>
  <Override PartName="/ppt/media/image31.wmf" ContentType="image/x-wmf"/>
  <Override PartName="/ppt/media/image5.gif" ContentType="image/gif"/>
  <Override PartName="/ppt/media/image29.wmf" ContentType="image/x-wmf"/>
  <Override PartName="/ppt/media/WHOOSH.WAV" ContentType="audio/x-wav"/>
  <Override PartName="/ppt/media/image16.wmf" ContentType="image/x-wmf"/>
  <Override PartName="/ppt/media/image37.wmf" ContentType="image/x-wmf"/>
  <Override PartName="/ppt/media/image7.wmf" ContentType="image/x-wmf"/>
  <Override PartName="/ppt/media/CASHREG.WAV" ContentType="audio/x-wav"/>
  <Override PartName="/ppt/media/CAMERA.WAV" ContentType="audio/x-wav"/>
  <Override PartName="/ppt/media/image24.wmf" ContentType="image/x-wmf"/>
  <Override PartName="/ppt/media/image6.wmf" ContentType="image/x-wmf"/>
  <Override PartName="/ppt/media/image36.wmf" ContentType="image/x-wmf"/>
  <Override PartName="/ppt/media/image28.wmf" ContentType="image/x-wmf"/>
  <Override PartName="/ppt/media/CHIMES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29AA-9918-47C9-AA76-B0B65F7A8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DDDE-572B-419E-B67A-803D2C5B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A775-6B19-4A62-975C-7BDC17A23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B220-B6E9-4410-BFB1-30745FB75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8F87-A1F7-4625-8F4C-46C50DFF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11F8-AE77-4D4E-AC13-42A270E6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CCFB-3742-4DF9-B691-DB9D8E8A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B139-6E5D-47BF-BD93-6B46EA56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72F1-2C51-4612-B310-54418989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E594-C401-4C0A-A941-42EA7008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048C-D594-44E2-815A-E8044608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6D48-E9E9-42DD-81B9-1288FD22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DCC5-AF25-4DFF-B249-372327616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wmf"/><Relationship Id="rId10" Type="http://schemas.openxmlformats.org/officeDocument/2006/relationships/audio" Target="../media/CHIMES.WAV"/><Relationship Id="rId11" Type="http://schemas.openxmlformats.org/officeDocument/2006/relationships/audio" Target="../media/CASHREG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WHOOSH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EXPLODE.WAV"/><Relationship Id="rId19" Type="http://schemas.openxmlformats.org/officeDocument/2006/relationships/audio" Target="../media/EXPLODE.WAV"/><Relationship Id="rId20" Type="http://schemas.openxmlformats.org/officeDocument/2006/relationships/audio" Target="../media/EXPLODE.WAV"/><Relationship Id="rId21" Type="http://schemas.openxmlformats.org/officeDocument/2006/relationships/audio" Target="../media/EXPLODE.WAV"/><Relationship Id="rId2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image" Target="../media/image43.gif"/><Relationship Id="rId8" Type="http://schemas.openxmlformats.org/officeDocument/2006/relationships/audio" Target="../media/CHIMES.WAV"/><Relationship Id="rId9" Type="http://schemas.openxmlformats.org/officeDocument/2006/relationships/audio" Target="../media/jetflyby2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EXPLODE.WAV"/><Relationship Id="rId13" Type="http://schemas.openxmlformats.org/officeDocument/2006/relationships/audio" Target="../media/DRIVEBY.WAV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wmf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WHOOSH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EXPLODE.WAV"/><Relationship Id="rId22" Type="http://schemas.openxmlformats.org/officeDocument/2006/relationships/audio" Target="../media/EXPLODE.WAV"/><Relationship Id="rId23" Type="http://schemas.openxmlformats.org/officeDocument/2006/relationships/audio" Target="../media/EXPLODE.WAV"/><Relationship Id="rId24" Type="http://schemas.openxmlformats.org/officeDocument/2006/relationships/audio" Target="../media/EXPLODE.WAV"/><Relationship Id="rId25" Type="http://schemas.openxmlformats.org/officeDocument/2006/relationships/audio" Target="../media/EXPLODE.WAV"/><Relationship Id="rId26" Type="http://schemas.openxmlformats.org/officeDocument/2006/relationships/audio" Target="../media/EXPLODE.WAV"/><Relationship Id="rId2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audio" Target="../media/CASHREG.WAV"/><Relationship Id="rId10" Type="http://schemas.openxmlformats.org/officeDocument/2006/relationships/audio" Target="../media/WHOOSH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audio" Target="../media/CASHREG.WAV"/><Relationship Id="rId20" Type="http://schemas.openxmlformats.org/officeDocument/2006/relationships/audio" Target="../media/WHOOSH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audio" Target="../media/CHIMES.WAV"/><Relationship Id="rId29" Type="http://schemas.openxmlformats.org/officeDocument/2006/relationships/audio" Target="../media/CHIMES.WAV"/><Relationship Id="rId30" Type="http://schemas.openxmlformats.org/officeDocument/2006/relationships/audio" Target="../media/CHIMES.WAV"/><Relationship Id="rId3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audio" Target="../media/CHIMES.WAV"/><Relationship Id="rId14" Type="http://schemas.openxmlformats.org/officeDocument/2006/relationships/audio" Target="../media/CASHREG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AMERA.WAV"/><Relationship Id="rId18" Type="http://schemas.openxmlformats.org/officeDocument/2006/relationships/audio" Target="../media/EXPLODE.WAV"/><Relationship Id="rId19" Type="http://schemas.openxmlformats.org/officeDocument/2006/relationships/audio" Target="../media/CAMERA.WAV"/><Relationship Id="rId20" Type="http://schemas.openxmlformats.org/officeDocument/2006/relationships/audio" Target="../media/EXPLODE.WAV"/><Relationship Id="rId21" Type="http://schemas.openxmlformats.org/officeDocument/2006/relationships/audio" Target="../media/CAMERA.WAV"/><Relationship Id="rId22" Type="http://schemas.openxmlformats.org/officeDocument/2006/relationships/audio" Target="../media/EXPLODE.WAV"/><Relationship Id="rId23" Type="http://schemas.openxmlformats.org/officeDocument/2006/relationships/audio" Target="../media/CAMERA.WAV"/><Relationship Id="rId24" Type="http://schemas.openxmlformats.org/officeDocument/2006/relationships/audio" Target="../media/EXPLODE.WAV"/><Relationship Id="rId25" Type="http://schemas.openxmlformats.org/officeDocument/2006/relationships/audio" Target="../media/CAMERA.WAV"/><Relationship Id="rId26" Type="http://schemas.openxmlformats.org/officeDocument/2006/relationships/audio" Target="../media/EXPLODE.WAV"/><Relationship Id="rId27" Type="http://schemas.openxmlformats.org/officeDocument/2006/relationships/audio" Target="../media/CAMERA.WAV"/><Relationship Id="rId28" Type="http://schemas.openxmlformats.org/officeDocument/2006/relationships/audio" Target="../media/EXPLODE.WAV"/><Relationship Id="rId2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9.wmf"/><Relationship Id="rId17" Type="http://schemas.openxmlformats.org/officeDocument/2006/relationships/audio" Target="../media/CASHREG.WAV"/><Relationship Id="rId18" Type="http://schemas.openxmlformats.org/officeDocument/2006/relationships/audio" Target="../media/CAMERA.WAV"/><Relationship Id="rId19" Type="http://schemas.openxmlformats.org/officeDocument/2006/relationships/audio" Target="../media/EXPLODE.WAV"/><Relationship Id="rId20" Type="http://schemas.openxmlformats.org/officeDocument/2006/relationships/audio" Target="../media/CAMERA.WAV"/><Relationship Id="rId21" Type="http://schemas.openxmlformats.org/officeDocument/2006/relationships/audio" Target="../media/EXPLODE.WAV"/><Relationship Id="rId22" Type="http://schemas.openxmlformats.org/officeDocument/2006/relationships/audio" Target="../media/CAMERA.WAV"/><Relationship Id="rId23" Type="http://schemas.openxmlformats.org/officeDocument/2006/relationships/audio" Target="../media/EXPLODE.WAV"/><Relationship Id="rId24" Type="http://schemas.openxmlformats.org/officeDocument/2006/relationships/audio" Target="../media/CAMERA.WAV"/><Relationship Id="rId25" Type="http://schemas.openxmlformats.org/officeDocument/2006/relationships/audio" Target="../media/EXPLODE.WAV"/><Relationship Id="rId26" Type="http://schemas.openxmlformats.org/officeDocument/2006/relationships/audio" Target="../media/CAMERA.WAV"/><Relationship Id="rId27" Type="http://schemas.openxmlformats.org/officeDocument/2006/relationships/audio" Target="../media/EXPLODE.WAV"/><Relationship Id="rId28" Type="http://schemas.openxmlformats.org/officeDocument/2006/relationships/audio" Target="../media/CAMERA.WAV"/><Relationship Id="rId29" Type="http://schemas.openxmlformats.org/officeDocument/2006/relationships/audio" Target="../media/GUNSHOT.WAV"/><Relationship Id="rId30" Type="http://schemas.openxmlformats.org/officeDocument/2006/relationships/audio" Target="../media/RICOCHET.WAV"/><Relationship Id="rId31" Type="http://schemas.openxmlformats.org/officeDocument/2006/relationships/audio" Target="../media/GUNSHOT.WAV"/><Relationship Id="rId32" Type="http://schemas.openxmlformats.org/officeDocument/2006/relationships/audio" Target="../media/RICOCHET.WAV"/><Relationship Id="rId33" Type="http://schemas.openxmlformats.org/officeDocument/2006/relationships/audio" Target="../media/EXPLODE.WAV"/><Relationship Id="rId3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audio" Target="../media/CASHREG.WAV"/><Relationship Id="rId14" Type="http://schemas.openxmlformats.org/officeDocument/2006/relationships/audio" Target="../media/CAMERA.WAV"/><Relationship Id="rId15" Type="http://schemas.openxmlformats.org/officeDocument/2006/relationships/audio" Target="../media/LASER.WAV"/><Relationship Id="rId16" Type="http://schemas.openxmlformats.org/officeDocument/2006/relationships/audio" Target="../media/EXPLODE.WAV"/><Relationship Id="rId17" Type="http://schemas.openxmlformats.org/officeDocument/2006/relationships/audio" Target="../media/CAMERA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EXPLODE.WAV"/><Relationship Id="rId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9.wmf"/><Relationship Id="rId13" Type="http://schemas.openxmlformats.org/officeDocument/2006/relationships/audio" Target="../media/CAMERA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EXPLODE.WAV"/><Relationship Id="rId18" Type="http://schemas.openxmlformats.org/officeDocument/2006/relationships/audio" Target="../media/CAMERA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EXPLODE.WAV"/><Relationship Id="rId2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image" Target="../media/image43.gif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LASER.WAV"/><Relationship Id="rId13" Type="http://schemas.openxmlformats.org/officeDocument/2006/relationships/audio" Target="../media/WHOOSH.WAV"/><Relationship Id="rId14" Type="http://schemas.openxmlformats.org/officeDocument/2006/relationships/audio" Target="../media/LASER.WAV"/><Relationship Id="rId15" Type="http://schemas.openxmlformats.org/officeDocument/2006/relationships/audio" Target="../media/WHOOSH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EXPLODE.WAV"/><Relationship Id="rId19" Type="http://schemas.openxmlformats.org/officeDocument/2006/relationships/audio" Target="../media/DRIVEBY.WAV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810400" y="1295280"/>
            <a:ext cx="3333600" cy="3333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44" name=""/>
            <p:cNvSpPr/>
            <p:nvPr/>
          </p:nvSpPr>
          <p:spPr>
            <a:xfrm>
              <a:off x="0" y="609480"/>
              <a:ext cx="9144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rite and label a matrix to organize the following information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666880" y="3352680"/>
                <a:ext cx="2324160" cy="15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/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47" name=""/>
          <p:cNvGraphicFramePr/>
          <p:nvPr/>
        </p:nvGraphicFramePr>
        <p:xfrm>
          <a:off x="2971800" y="3657600"/>
          <a:ext cx="36360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3657600"/>
                    <a:ext cx="3636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308880" y="1523880"/>
            <a:ext cx="37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1. Law Firm Personn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7960" y="1905120"/>
            <a:ext cx="542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Males: 3 Attorneys, 4 Paraleg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Females: 4 Attorneys, 5 Paraleg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4280" y="3505320"/>
            <a:ext cx="142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Fe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59560" y="2971800"/>
            <a:ext cx="370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Attorneys     Paraleg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191120" y="3657600"/>
          <a:ext cx="404640" cy="48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91120" y="3657600"/>
                    <a:ext cx="4046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2971800" y="4114800"/>
          <a:ext cx="404640" cy="485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71800" y="4114800"/>
                    <a:ext cx="4046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191120" y="4114800"/>
          <a:ext cx="363240" cy="485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91120" y="4114800"/>
                    <a:ext cx="3632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3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229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sing Multiplication in Real Lif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305080" y="4038480"/>
                <a:ext cx="13240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8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32" name=""/>
          <p:cNvGraphicFramePr/>
          <p:nvPr/>
        </p:nvGraphicFramePr>
        <p:xfrm>
          <a:off x="2638440" y="4876920"/>
          <a:ext cx="186048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8440" y="4876920"/>
                    <a:ext cx="18604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0" y="11430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18. To promote its grand opening, a record store advertises compact discs for $10. The store loses $1.50 on each compact disc it sells. How much money will it lose on its grand opening sale if it sells 256 disc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0" y="2895480"/>
            <a:ext cx="8763120" cy="1068840"/>
            <a:chOff x="0" y="2895480"/>
            <a:chExt cx="8763120" cy="1068840"/>
          </a:xfrm>
        </p:grpSpPr>
        <p:graphicFrame>
          <p:nvGraphicFramePr>
            <p:cNvPr id="236" name=""/>
            <p:cNvGraphicFramePr/>
            <p:nvPr/>
          </p:nvGraphicFramePr>
          <p:xfrm>
            <a:off x="3581280" y="3200400"/>
            <a:ext cx="400320" cy="44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81280" y="3200400"/>
                      <a:ext cx="40032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8" name=""/>
            <p:cNvSpPr/>
            <p:nvPr/>
          </p:nvSpPr>
          <p:spPr>
            <a:xfrm>
              <a:off x="0" y="2895480"/>
              <a:ext cx="1523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Times New Roman"/>
                </a:rPr>
                <a:t>Verbal Mode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523880" y="2895480"/>
              <a:ext cx="1981440" cy="103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Times New Roman"/>
                </a:rPr>
                <a:t>Number of discs sol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962520" y="2895480"/>
              <a:ext cx="1752480" cy="106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00"/>
                  </a:solidFill>
                  <a:latin typeface="Times New Roman"/>
                </a:rPr>
                <a:t>Loss per dis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1" name=""/>
            <p:cNvGraphicFramePr/>
            <p:nvPr/>
          </p:nvGraphicFramePr>
          <p:xfrm>
            <a:off x="5743440" y="3222720"/>
            <a:ext cx="581040" cy="468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43440" y="3222720"/>
                      <a:ext cx="581040" cy="4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3" name=""/>
            <p:cNvSpPr/>
            <p:nvPr/>
          </p:nvSpPr>
          <p:spPr>
            <a:xfrm>
              <a:off x="6324480" y="3048120"/>
              <a:ext cx="2438640" cy="58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00"/>
                  </a:solidFill>
                  <a:latin typeface="Times New Roman"/>
                </a:rPr>
                <a:t>Total lo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3595680" y="4038480"/>
                <a:ext cx="199080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990720" y="5562720"/>
            <a:ext cx="518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The store loses $462.50 on its grand ope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11430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18. To promote its grand opening, a record store advertises compact discs for $10. The store loses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$2.50</a:t>
            </a: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 on each compact disc it sells. How much money will it lose on its grand opening sale if it sells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185</a:t>
            </a: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 disc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7"/>
          <a:stretch/>
        </p:blipFill>
        <p:spPr>
          <a:xfrm>
            <a:off x="6095880" y="4216320"/>
            <a:ext cx="30481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791320" y="2057400"/>
            <a:ext cx="3352680" cy="1440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62" name=""/>
            <p:cNvSpPr/>
            <p:nvPr/>
          </p:nvSpPr>
          <p:spPr>
            <a:xfrm>
              <a:off x="0" y="609480"/>
              <a:ext cx="9144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rite and label a matrix to organize the following information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130560" y="3747960"/>
                <a:ext cx="259092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/>
                          <m:e/>
                        </m:d>
                        <m:d>
                          <m:dPr>
                            <m:begChr m:val="|"/>
                            <m:endChr m:val="|"/>
                          </m:dPr>
                          <m:e/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65" name=""/>
          <p:cNvGraphicFramePr/>
          <p:nvPr/>
        </p:nvGraphicFramePr>
        <p:xfrm>
          <a:off x="3462480" y="4038480"/>
          <a:ext cx="614160" cy="4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62480" y="4038480"/>
                    <a:ext cx="61416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459720" y="1523880"/>
            <a:ext cx="43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2. Car Rental Reserv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7960" y="1905120"/>
            <a:ext cx="5091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edans: 26 budget, 47 lux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Convertibles: 3 budget, 8 lux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port Utility: 5 budget, 9 lux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7240" y="3886200"/>
            <a:ext cx="2116080" cy="19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ed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onvert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port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33440" y="3352680"/>
            <a:ext cx="267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Budget   Lux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684680" y="4038480"/>
          <a:ext cx="650880" cy="486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84680" y="4038480"/>
                    <a:ext cx="65088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3602160" y="4648320"/>
          <a:ext cx="363240" cy="485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602160" y="4648320"/>
                    <a:ext cx="3632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4800600" y="4648320"/>
          <a:ext cx="363600" cy="485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800600" y="4648320"/>
                    <a:ext cx="3636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3581280" y="5257800"/>
          <a:ext cx="363600" cy="485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581280" y="5257800"/>
                    <a:ext cx="3636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4780080" y="5257800"/>
          <a:ext cx="404640" cy="485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780080" y="5257800"/>
                    <a:ext cx="4046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719280" y="1317600"/>
                <a:ext cx="4076640" cy="18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3" name=""/>
          <p:cNvGrpSpPr/>
          <p:nvPr/>
        </p:nvGrpSpPr>
        <p:grpSpPr>
          <a:xfrm>
            <a:off x="0" y="811080"/>
            <a:ext cx="9144000" cy="890640"/>
            <a:chOff x="0" y="811080"/>
            <a:chExt cx="9144000" cy="890640"/>
          </a:xfrm>
        </p:grpSpPr>
        <p:sp>
          <p:nvSpPr>
            <p:cNvPr id="84" name=""/>
            <p:cNvSpPr/>
            <p:nvPr/>
          </p:nvSpPr>
          <p:spPr>
            <a:xfrm>
              <a:off x="0" y="8110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. Find the sum of the matrice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920" y="1268280"/>
              <a:ext cx="88390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5246640" y="1284120"/>
                <a:ext cx="2691000" cy="180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/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87" name=""/>
          <p:cNvGraphicFramePr/>
          <p:nvPr/>
        </p:nvGraphicFramePr>
        <p:xfrm>
          <a:off x="6172200" y="1573200"/>
          <a:ext cx="45720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573200"/>
                    <a:ext cx="4572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6629400" y="1573200"/>
          <a:ext cx="86832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9400" y="1573200"/>
                    <a:ext cx="8683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6172200" y="2182680"/>
          <a:ext cx="457200" cy="60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2182680"/>
                    <a:ext cx="4572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6934320" y="2182680"/>
          <a:ext cx="50940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34320" y="2182680"/>
                    <a:ext cx="5094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42880" y="1344600"/>
                <a:ext cx="4614840" cy="17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7" name=""/>
          <p:cNvGrpSpPr/>
          <p:nvPr/>
        </p:nvGrpSpPr>
        <p:grpSpPr>
          <a:xfrm>
            <a:off x="0" y="811080"/>
            <a:ext cx="9144000" cy="890640"/>
            <a:chOff x="0" y="811080"/>
            <a:chExt cx="9144000" cy="890640"/>
          </a:xfrm>
        </p:grpSpPr>
        <p:sp>
          <p:nvSpPr>
            <p:cNvPr id="98" name=""/>
            <p:cNvSpPr/>
            <p:nvPr/>
          </p:nvSpPr>
          <p:spPr>
            <a:xfrm>
              <a:off x="0" y="8110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. Find the difference of the matrice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4920" y="1268280"/>
              <a:ext cx="88390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297400" y="1284120"/>
                <a:ext cx="3449880" cy="180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/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01" name=""/>
          <p:cNvGraphicFramePr/>
          <p:nvPr/>
        </p:nvGraphicFramePr>
        <p:xfrm>
          <a:off x="5943600" y="1600200"/>
          <a:ext cx="123048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600200"/>
                    <a:ext cx="1230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7467480" y="1600200"/>
          <a:ext cx="86832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1600200"/>
                    <a:ext cx="8683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6477120" y="2209680"/>
          <a:ext cx="457200" cy="60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7120" y="2209680"/>
                    <a:ext cx="4572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7696080" y="2209680"/>
          <a:ext cx="45720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96080" y="2209680"/>
                    <a:ext cx="4572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743200" y="1600200"/>
          <a:ext cx="566640" cy="404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1600200"/>
                    <a:ext cx="5666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3747960" y="1455840"/>
          <a:ext cx="567000" cy="56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47960" y="1455840"/>
                    <a:ext cx="56700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730600" y="2340000"/>
          <a:ext cx="566640" cy="565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30600" y="2340000"/>
                    <a:ext cx="56664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4030560" y="2340000"/>
          <a:ext cx="567000" cy="565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030560" y="2340000"/>
                    <a:ext cx="56700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2203560" y="1892160"/>
          <a:ext cx="566640" cy="565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203560" y="1892160"/>
                    <a:ext cx="56664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121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ules for Multiplying Negative Number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0" y="1219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If there is an even number of negative numbers,                       then the answer is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osi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209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If there is an odd number of negative numbers,                      then the answer is 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Nega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28600" y="3048120"/>
                <a:ext cx="251460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26" name=""/>
          <p:cNvGraphicFramePr/>
          <p:nvPr/>
        </p:nvGraphicFramePr>
        <p:xfrm>
          <a:off x="1143000" y="3809880"/>
          <a:ext cx="82080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809880"/>
                    <a:ext cx="8208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078000" y="3086280"/>
                <a:ext cx="28926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29" name=""/>
          <p:cNvGraphicFramePr/>
          <p:nvPr/>
        </p:nvGraphicFramePr>
        <p:xfrm>
          <a:off x="4344840" y="3809880"/>
          <a:ext cx="51120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4840" y="3809880"/>
                    <a:ext cx="5112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6388200" y="3103560"/>
                <a:ext cx="27558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32" name=""/>
          <p:cNvGraphicFramePr/>
          <p:nvPr/>
        </p:nvGraphicFramePr>
        <p:xfrm>
          <a:off x="7467480" y="3809880"/>
          <a:ext cx="1138320" cy="61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67480" y="3809880"/>
                    <a:ext cx="11383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31840" y="4557600"/>
                <a:ext cx="43894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35" name=""/>
          <p:cNvGraphicFramePr/>
          <p:nvPr/>
        </p:nvGraphicFramePr>
        <p:xfrm>
          <a:off x="1905120" y="5334120"/>
          <a:ext cx="77616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5120" y="5334120"/>
                    <a:ext cx="7761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965840" y="4557600"/>
                <a:ext cx="41781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38" name=""/>
          <p:cNvGraphicFramePr/>
          <p:nvPr/>
        </p:nvGraphicFramePr>
        <p:xfrm>
          <a:off x="6553080" y="5334120"/>
          <a:ext cx="1138320" cy="612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53080" y="5334120"/>
                    <a:ext cx="11383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146320" y="5950080"/>
                <a:ext cx="314172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41" name=""/>
          <p:cNvGraphicFramePr/>
          <p:nvPr/>
        </p:nvGraphicFramePr>
        <p:xfrm>
          <a:off x="5257800" y="6019920"/>
          <a:ext cx="1647720" cy="612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57800" y="6019920"/>
                    <a:ext cx="1647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145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implify the variable expression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73160" y="1344600"/>
                <a:ext cx="26226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48" name=""/>
          <p:cNvGraphicFramePr/>
          <p:nvPr/>
        </p:nvGraphicFramePr>
        <p:xfrm>
          <a:off x="990720" y="2133720"/>
          <a:ext cx="123336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133720"/>
                    <a:ext cx="12333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932360" y="1287360"/>
                <a:ext cx="31226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8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51" name=""/>
          <p:cNvGraphicFramePr/>
          <p:nvPr/>
        </p:nvGraphicFramePr>
        <p:xfrm>
          <a:off x="6400800" y="1905120"/>
          <a:ext cx="87300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1905120"/>
                    <a:ext cx="8730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73160" y="2975040"/>
                <a:ext cx="417168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54" name=""/>
          <p:cNvGraphicFramePr/>
          <p:nvPr/>
        </p:nvGraphicFramePr>
        <p:xfrm>
          <a:off x="1219320" y="3809880"/>
          <a:ext cx="1441440" cy="92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3809880"/>
                    <a:ext cx="144144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857840" y="2649600"/>
                <a:ext cx="271620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57" name=""/>
          <p:cNvGraphicFramePr/>
          <p:nvPr/>
        </p:nvGraphicFramePr>
        <p:xfrm>
          <a:off x="6095880" y="4038480"/>
          <a:ext cx="118440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5880" y="4038480"/>
                    <a:ext cx="11844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65240" y="4971960"/>
                <a:ext cx="440208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60" name=""/>
          <p:cNvGraphicFramePr/>
          <p:nvPr/>
        </p:nvGraphicFramePr>
        <p:xfrm>
          <a:off x="1447920" y="5791320"/>
          <a:ext cx="1390680" cy="772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47920" y="5791320"/>
                    <a:ext cx="139068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5126040" y="4564080"/>
                <a:ext cx="375444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s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63" name=""/>
          <p:cNvGraphicFramePr/>
          <p:nvPr/>
        </p:nvGraphicFramePr>
        <p:xfrm>
          <a:off x="6858000" y="5791320"/>
          <a:ext cx="976320" cy="774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58000" y="5791320"/>
                    <a:ext cx="9763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 flipH="1">
            <a:off x="6324120" y="5486400"/>
            <a:ext cx="38124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7848360" y="5105520"/>
            <a:ext cx="533160" cy="3045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019920" y="5486400"/>
          <a:ext cx="406440" cy="61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19920" y="5486400"/>
                    <a:ext cx="40644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8001000" y="4495680"/>
          <a:ext cx="509760" cy="612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001000" y="4495680"/>
                    <a:ext cx="5097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173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valuate the expression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5" name=""/>
          <p:cNvGraphicFramePr/>
          <p:nvPr/>
        </p:nvGraphicFramePr>
        <p:xfrm>
          <a:off x="228600" y="1219320"/>
          <a:ext cx="521028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521028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393920" y="1882800"/>
                <a:ext cx="186516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78" name=""/>
          <p:cNvGraphicFramePr/>
          <p:nvPr/>
        </p:nvGraphicFramePr>
        <p:xfrm>
          <a:off x="1828800" y="2666880"/>
          <a:ext cx="113652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2666880"/>
                    <a:ext cx="11365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04920" y="3429000"/>
          <a:ext cx="6298920" cy="84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3429000"/>
                    <a:ext cx="629892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011240" y="4270320"/>
                <a:ext cx="373392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83" name=""/>
          <p:cNvGraphicFramePr/>
          <p:nvPr/>
        </p:nvGraphicFramePr>
        <p:xfrm>
          <a:off x="2438280" y="5867280"/>
          <a:ext cx="45720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5867280"/>
                    <a:ext cx="4572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2057400" y="5181480"/>
          <a:ext cx="509760" cy="612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7400" y="5181480"/>
                    <a:ext cx="5097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2514600" y="5181480"/>
          <a:ext cx="819000" cy="612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14600" y="5181480"/>
                    <a:ext cx="8190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191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valuate the expression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93" name=""/>
          <p:cNvGraphicFramePr/>
          <p:nvPr/>
        </p:nvGraphicFramePr>
        <p:xfrm>
          <a:off x="304920" y="1219320"/>
          <a:ext cx="7010280" cy="70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19320"/>
                    <a:ext cx="7010280" cy="70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65200" y="1987560"/>
                <a:ext cx="44132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96" name=""/>
          <p:cNvGraphicFramePr/>
          <p:nvPr/>
        </p:nvGraphicFramePr>
        <p:xfrm>
          <a:off x="2209680" y="3352680"/>
          <a:ext cx="113688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3352680"/>
                    <a:ext cx="11368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380880" y="3886200"/>
          <a:ext cx="4784760" cy="70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3886200"/>
                    <a:ext cx="478476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000160" y="4594320"/>
                <a:ext cx="141444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201" name=""/>
          <p:cNvGraphicFramePr/>
          <p:nvPr/>
        </p:nvGraphicFramePr>
        <p:xfrm>
          <a:off x="2154240" y="6245280"/>
          <a:ext cx="117792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54240" y="6245280"/>
                    <a:ext cx="11779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979560" y="5472000"/>
                <a:ext cx="33354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04" name=""/>
          <p:cNvGraphicFramePr/>
          <p:nvPr/>
        </p:nvGraphicFramePr>
        <p:xfrm>
          <a:off x="1676520" y="2743200"/>
          <a:ext cx="1136520" cy="612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743200"/>
                    <a:ext cx="11365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2743200" y="2743200"/>
          <a:ext cx="1136520" cy="612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43200" y="2743200"/>
                    <a:ext cx="11365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210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sing Multiplication in Real Lif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265480" y="4038480"/>
                <a:ext cx="14176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13" name=""/>
          <p:cNvGraphicFramePr/>
          <p:nvPr/>
        </p:nvGraphicFramePr>
        <p:xfrm>
          <a:off x="2819520" y="4876920"/>
          <a:ext cx="149832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4876920"/>
                    <a:ext cx="14983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0" y="11430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17. To promote its grand opening, a record store advertises compact discs for $10. The store loses $1.50 on each compact disc it sells. How much money will it lose on its grand opening sale if it sells 256 disc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581280" y="3200400"/>
          <a:ext cx="40032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3200400"/>
                    <a:ext cx="4003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0" y="289548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Verb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3880" y="2895480"/>
            <a:ext cx="1981440" cy="10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Number of discs s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2895480"/>
            <a:ext cx="175248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Loss per dis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5743440" y="3222720"/>
          <a:ext cx="581040" cy="46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43440" y="3222720"/>
                    <a:ext cx="5810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6324480" y="3048120"/>
            <a:ext cx="24386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Total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613320" y="4038480"/>
                <a:ext cx="18777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990720" y="5562720"/>
            <a:ext cx="495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The store loses $384 on its grand ope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7"/>
          <a:stretch/>
        </p:blipFill>
        <p:spPr>
          <a:xfrm>
            <a:off x="6095880" y="4216320"/>
            <a:ext cx="30481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.skelton</cp:lastModifiedBy>
  <dcterms:modified xsi:type="dcterms:W3CDTF">2005-08-24T14:10:47Z</dcterms:modified>
  <cp:revision>72</cp:revision>
  <dc:subject/>
  <dc:title>No Slide Title</dc:title>
</cp:coreProperties>
</file>